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24E-6171-4FF4-ADD4-C315383E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D9A-2157-401A-A832-614CED2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26A-83A4-44FA-9E0F-215D2EF1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F21-7373-4C9E-B725-EB4C14AD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766E-2D2A-4F47-A794-8B43113C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2C5-8C6A-4F26-A035-96872752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2416-A94B-4134-B8E3-7CD79C91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490-2252-4938-99A3-4616370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F711-D322-46AC-B249-B968689D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DF9C-ACD7-4498-B172-F2652DA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AA5-8E71-48DC-975E-08417E1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11F-9C28-4287-AC5B-5D45758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FFBE-53CC-4B50-9755-2B40F25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A066-4B0C-4EF4-B846-A7A162A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8B16-B818-4DEB-8007-C8A9104E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D5F-1428-471D-803B-6DAC839F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4C76-BB7E-4447-AFB9-993CB74E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3F3B-59BB-4C11-9084-B454756C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18D4-334B-4897-B536-FD0D527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5905-D949-4CBD-967B-51744628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1296-FF05-4F84-A2D0-0560A49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3ADF-A2F6-454C-8643-4CFDAEEB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0AB-EB35-43C9-886D-3F76F3E2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90B3-37F7-468C-82E5-419560F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2E4DC-A75D-43D7-B374-F9CB450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A32F-228C-4EA3-AF3C-4C05F7A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8A58-2AA5-4DC2-9880-683360F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F103-27A6-4774-8191-A88BECE6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EF77-B286-4833-80E7-AC9E0CAE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277F-6F0E-4389-833A-19A1EF99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7FC1-1987-4524-948D-A4F3B9B0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09C9-4A8D-496A-85B3-D5336DBC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8F91-0FE7-406B-9DE1-6EEBD944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3F1-4EA1-4350-84BA-5A058AB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A139-720A-4DA2-AED2-5C6F059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60B2-A53D-4113-8CAF-DAB950D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FB9C-30C1-4077-B475-52F96E1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47A9-951A-4414-B547-6A48465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33FF-CFBA-4DBF-9227-D7EBCE6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0FCC-808D-4E31-BAB9-2384674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226E-3E69-4EAE-8FD2-F94169C2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E5FD-E422-4BBB-809C-B520B228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47CC-2447-4820-A482-E2EAA8A3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AC07-A08A-4007-856C-8AC2628D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EEA-5097-4A93-84FF-E1B96964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2CD9-DB98-46BC-BB41-2A7C8BD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73E0-121A-4FE5-81D3-4ED0782C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886D-E8CF-49A5-BD1E-D0CC24E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AEA0-465B-41CC-900C-F080A26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40349-B258-4BBC-B322-8BAD94DD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4C9A-BCA3-4EE9-B12E-9AF5E82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33FE-890F-4903-B414-B809AAE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E97B-FA51-4275-A2BA-7FA0463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1824-8126-4BB9-AC5E-3D9CEC74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CDFA-8CFA-43CD-A457-7B131A68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763-9D42-4068-8924-E9C6A8DF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17A0-6E4A-4473-B0D2-E73241D7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DB72B-85F5-4184-AB31-229D9217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7578-B353-4CC1-BB0F-23286D38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80D6-2488-4419-A119-878C264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67CF-BB4C-4DFA-9944-CC0E5950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754FA-0435-4681-AF8A-7AB36C59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D5A05-140E-4C4E-A017-61C0284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0C59B-31F9-4023-8507-05E5279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F769-500F-4116-8469-6879667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4491-0889-4318-8661-EF0AB84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F9C-6961-4ECD-94EE-14DC3E4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CB24-849A-49AB-A56E-00913AF5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8A21-4870-49EC-A9BF-35359F60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42606-1BE7-4B29-BBE5-067D9498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B6C09-992F-4FCE-B594-B3A77967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A85F7-B59B-4ECD-AD9F-FDA5DB1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E6D5-D2D6-4CEE-B1EC-AE46CD6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47D2-A132-4A4B-95C6-6B383819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2FAE-1200-4910-93BD-D0BB8E3F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555B-0E8E-4EB7-BC82-87124D90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7ADA5-9677-4D6A-B68B-33C809E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FF9-F15C-47D6-BB9B-C938E07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20133-17AD-40D1-AAF1-6189304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BD6FC-344C-4425-8C89-7139E17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F19A-0AA5-4D6D-8489-BFDE572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6CB88-6488-43A7-93EC-8B403429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149B-08B4-468E-91E1-188C0055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ABF-05A4-4939-9E48-C83D874F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3242-876B-40FC-BB90-089C6D223803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da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d7dae1"/>
                </a:solidFill>
                <a:latin typeface="Bodoni MT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0E0-4B10-4139-95E2-6E4ED1F47AAA}" type="slidenum">
              <a:rPr b="0" lang="en-US" sz="2400" spc="-1" strike="noStrike">
                <a:solidFill>
                  <a:srgbClr val="d7dae1"/>
                </a:solidFill>
                <a:latin typeface="Bodoni MT Condensed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DFD2-8795-41E5-AE3C-421CE62EDF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131-5379-4609-A409-7E50C74F6F39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67F-FEB1-4416-BAFE-7EB759172FB6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0B3-89F3-4844-BE5B-1F017C458E2D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Rectangle 10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Rectangle 11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81BC-8A40-47A5-B1D3-3CC04EB606EF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25360" y="2822400"/>
            <a:ext cx="8686800" cy="14684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1320" y="4800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d7dae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Direct object pronouns answer the questions _________ or _________ about the verb. They </a:t>
            </a:r>
            <a:r>
              <a:rPr b="0" i="1" lang="en-US" sz="2400" spc="-1" strike="noStrike">
                <a:solidFill>
                  <a:srgbClr val="1c6096"/>
                </a:solidFill>
                <a:latin typeface="Franklin Gothic Book"/>
              </a:rPr>
              <a:t>directly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_____________ the action of the verb.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DOP’s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Examples: 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4a"/>
                </a:solidFill>
                <a:latin typeface="Franklin Gothic Book"/>
              </a:rPr>
              <a:t>I buy it (the book). </a:t>
            </a: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4a"/>
                </a:solidFill>
                <a:latin typeface="Franklin Gothic Book"/>
              </a:rPr>
              <a:t>She wants them (the shoes). </a:t>
            </a: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4a"/>
                </a:solidFill>
                <a:latin typeface="Franklin Gothic Book"/>
              </a:rPr>
              <a:t>We have it. (the house). </a:t>
            </a: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57400" y="2819520"/>
          <a:ext cx="6477120" cy="210348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(famili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ll  (famili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, 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, you (formal), him/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s, 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m, you all (form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</a:tbl>
          </a:graphicData>
        </a:graphic>
      </p:graphicFrame>
      <p:pic>
        <p:nvPicPr>
          <p:cNvPr id="320" name="Rectangle 5" descr=""/>
          <p:cNvPicPr/>
          <p:nvPr/>
        </p:nvPicPr>
        <p:blipFill>
          <a:blip r:embed="rId2"/>
          <a:stretch/>
        </p:blipFill>
        <p:spPr>
          <a:xfrm>
            <a:off x="6894360" y="1536840"/>
            <a:ext cx="1036800" cy="52380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6" descr=""/>
          <p:cNvPicPr/>
          <p:nvPr/>
        </p:nvPicPr>
        <p:blipFill>
          <a:blip r:embed="rId3"/>
          <a:stretch/>
        </p:blipFill>
        <p:spPr>
          <a:xfrm>
            <a:off x="1079640" y="1908000"/>
            <a:ext cx="1157040" cy="51768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7" descr=""/>
          <p:cNvPicPr/>
          <p:nvPr/>
        </p:nvPicPr>
        <p:blipFill>
          <a:blip r:embed="rId4"/>
          <a:stretch/>
        </p:blipFill>
        <p:spPr>
          <a:xfrm>
            <a:off x="6004080" y="1914480"/>
            <a:ext cx="1847520" cy="6397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8"/>
          <p:cNvSpPr/>
          <p:nvPr/>
        </p:nvSpPr>
        <p:spPr>
          <a:xfrm>
            <a:off x="48006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Yo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o</a:t>
            </a: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 compro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Ella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os</a:t>
            </a: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 quier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Nosotros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a</a:t>
            </a: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 tenemos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ight Arrow 9"/>
          <p:cNvSpPr/>
          <p:nvPr/>
        </p:nvSpPr>
        <p:spPr>
          <a:xfrm>
            <a:off x="3429000" y="5562720"/>
            <a:ext cx="1662120" cy="75960"/>
          </a:xfrm>
          <a:prstGeom prst="rightArrow">
            <a:avLst>
              <a:gd name="adj1" fmla="val 50000"/>
              <a:gd name="adj2" fmla="val 50145"/>
            </a:avLst>
          </a:prstGeom>
          <a:solidFill>
            <a:srgbClr val="7eb8e7"/>
          </a:solidFill>
          <a:ln w="28080">
            <a:solidFill>
              <a:srgbClr val="5b8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Right Arrow 10"/>
          <p:cNvSpPr/>
          <p:nvPr/>
        </p:nvSpPr>
        <p:spPr>
          <a:xfrm>
            <a:off x="4460760" y="5896080"/>
            <a:ext cx="679680" cy="7596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7eb8e7"/>
          </a:solidFill>
          <a:ln w="28080">
            <a:solidFill>
              <a:srgbClr val="5b8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Right Arrow 11"/>
          <p:cNvSpPr/>
          <p:nvPr/>
        </p:nvSpPr>
        <p:spPr>
          <a:xfrm>
            <a:off x="4073400" y="6248520"/>
            <a:ext cx="1017720" cy="75960"/>
          </a:xfrm>
          <a:prstGeom prst="rightArrow">
            <a:avLst>
              <a:gd name="adj1" fmla="val 50000"/>
              <a:gd name="adj2" fmla="val 50181"/>
            </a:avLst>
          </a:prstGeom>
          <a:solidFill>
            <a:srgbClr val="7eb8e7"/>
          </a:solidFill>
          <a:ln w="28080">
            <a:solidFill>
              <a:srgbClr val="5b8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b8e7"/>
                </a:solidFill>
                <a:latin typeface="Franklin Gothic Book"/>
              </a:rPr>
              <a:t>Indirect object pronouns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answer the questions ___________________ or ___________________ about the verb. They </a:t>
            </a:r>
            <a:r>
              <a:rPr b="0" i="1" lang="en-US" sz="3200" spc="-1" strike="noStrike">
                <a:solidFill>
                  <a:srgbClr val="7eb8e7"/>
                </a:solidFill>
                <a:latin typeface="Franklin Gothic Book"/>
              </a:rPr>
              <a:t>indirectly</a:t>
            </a:r>
            <a:r>
              <a:rPr b="0" i="1" lang="en-US" sz="24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receive the action of the verb. 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IOP’S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838080" y="3352680"/>
          <a:ext cx="7848720" cy="2971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921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 for 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you (famili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you all (famili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680b"/>
                          </a:solidFill>
                          <a:latin typeface="Franklin Gothic Book"/>
                        </a:rPr>
                        <a:t>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 for you (formal), him/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680b"/>
                          </a:solidFill>
                          <a:latin typeface="Franklin Gothic Book"/>
                        </a:rPr>
                        <a:t>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them, you all (form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</a:tbl>
          </a:graphicData>
        </a:graphic>
      </p:graphicFrame>
      <p:pic>
        <p:nvPicPr>
          <p:cNvPr id="330" name="Rectangle 4" descr=""/>
          <p:cNvPicPr/>
          <p:nvPr/>
        </p:nvPicPr>
        <p:blipFill>
          <a:blip r:embed="rId2"/>
          <a:stretch/>
        </p:blipFill>
        <p:spPr>
          <a:xfrm>
            <a:off x="1212840" y="1865160"/>
            <a:ext cx="1762200" cy="51768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5" descr=""/>
          <p:cNvPicPr/>
          <p:nvPr/>
        </p:nvPicPr>
        <p:blipFill>
          <a:blip r:embed="rId3"/>
          <a:stretch/>
        </p:blipFill>
        <p:spPr>
          <a:xfrm>
            <a:off x="4803840" y="1828800"/>
            <a:ext cx="19018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If there is one verb, you have one option. The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IOP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 goes ____________ the verb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I buy </a:t>
            </a:r>
            <a:r>
              <a:rPr b="0" i="1" lang="en-US" sz="3000" spc="-1" strike="noStrike">
                <a:solidFill>
                  <a:srgbClr val="55554a"/>
                </a:solidFill>
                <a:latin typeface="Franklin Gothic Book"/>
              </a:rPr>
              <a:t>her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 the book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Yo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le</a:t>
            </a: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 compro el libro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She buys</a:t>
            </a:r>
            <a:r>
              <a:rPr b="0" i="1" lang="en-US" sz="3000" spc="-1" strike="noStrike">
                <a:solidFill>
                  <a:srgbClr val="55554a"/>
                </a:solidFill>
                <a:latin typeface="Franklin Gothic Book"/>
              </a:rPr>
              <a:t> me 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the shoes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Ella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me</a:t>
            </a: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 compra los zapatos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We buy the house </a:t>
            </a:r>
            <a:r>
              <a:rPr b="0" i="1" lang="en-US" sz="3000" spc="-1" strike="noStrike">
                <a:solidFill>
                  <a:srgbClr val="55554a"/>
                </a:solidFill>
                <a:latin typeface="Franklin Gothic Book"/>
              </a:rPr>
              <a:t>for you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Nosotros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te</a:t>
            </a: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 compramos la casa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4" descr=""/>
          <p:cNvPicPr/>
          <p:nvPr/>
        </p:nvPicPr>
        <p:blipFill>
          <a:blip r:embed="rId2"/>
          <a:stretch/>
        </p:blipFill>
        <p:spPr>
          <a:xfrm>
            <a:off x="2077920" y="1914480"/>
            <a:ext cx="1841760" cy="6397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5"/>
          <p:cNvSpPr/>
          <p:nvPr/>
        </p:nvSpPr>
        <p:spPr>
          <a:xfrm flipH="1" rot="608400">
            <a:off x="5233680" y="2950200"/>
            <a:ext cx="3611520" cy="1557000"/>
          </a:xfrm>
          <a:prstGeom prst="rect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4206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k yourself: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o Whom?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or whom?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bout the verb to find the IO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6"/>
          <p:cNvSpPr/>
          <p:nvPr/>
        </p:nvSpPr>
        <p:spPr>
          <a:xfrm>
            <a:off x="5105520" y="4952880"/>
            <a:ext cx="1600200" cy="838440"/>
          </a:xfrm>
          <a:prstGeom prst="ellipse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3600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6858000" y="3505320"/>
            <a:ext cx="1600200" cy="838080"/>
          </a:xfrm>
          <a:prstGeom prst="ellipse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3600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2514600" y="2057400"/>
            <a:ext cx="914400" cy="838080"/>
          </a:xfrm>
          <a:prstGeom prst="ellipse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3600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54a"/>
                </a:solidFill>
                <a:latin typeface="Franklin Gothic Book"/>
              </a:rPr>
              <a:t>La Practic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buClr>
                <a:srgbClr val="abb19f"/>
              </a:buClr>
              <a:buSzPct val="85000"/>
              <a:buFont typeface="Franklin Gothic 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I 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buy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you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a car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Yo </a:t>
            </a:r>
            <a:r>
              <a:rPr b="0" lang="en-US" sz="4000" spc="-1" strike="noStrike">
                <a:solidFill>
                  <a:srgbClr val="7eb8e7"/>
                </a:solidFill>
                <a:latin typeface="Franklin Gothic Book"/>
              </a:rPr>
              <a:t>te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 compro un carro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2.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She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sells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a lemonade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to    me.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Ella </a:t>
            </a:r>
            <a:r>
              <a:rPr b="0" lang="en-US" sz="4000" spc="-1" strike="noStrike">
                <a:solidFill>
                  <a:srgbClr val="7eb8e7"/>
                </a:solidFill>
                <a:latin typeface="Franklin Gothic Book"/>
              </a:rPr>
              <a:t>me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 vende una limonada.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3.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They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sell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the coffee 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to him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Ellos </a:t>
            </a:r>
            <a:r>
              <a:rPr b="0" lang="en-US" sz="4000" spc="-1" strike="noStrike">
                <a:solidFill>
                  <a:srgbClr val="7eb8e7"/>
                </a:solidFill>
                <a:latin typeface="Franklin Gothic Book"/>
              </a:rPr>
              <a:t>le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 venden el café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If you have </a:t>
            </a:r>
            <a:r>
              <a:rPr b="0" lang="en-US" sz="2400" spc="-1" strike="noStrike">
                <a:solidFill>
                  <a:srgbClr val="f4680b"/>
                </a:solidFill>
                <a:latin typeface="Franklin Gothic Book"/>
              </a:rPr>
              <a:t>2 verbs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, you have </a:t>
            </a:r>
            <a:r>
              <a:rPr b="0" lang="en-US" sz="2400" spc="-1" strike="noStrike">
                <a:solidFill>
                  <a:srgbClr val="f4680b"/>
                </a:solidFill>
                <a:latin typeface="Franklin Gothic Book"/>
              </a:rPr>
              <a:t>2 options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r placing the IOP. It can go ____________ the first verb or ______________ to the end of the 2</a:t>
            </a:r>
            <a:r>
              <a:rPr b="0" lang="en-US" sz="2400" spc="-1" strike="noStrike" baseline="30000">
                <a:solidFill>
                  <a:srgbClr val="55554a"/>
                </a:solidFill>
                <a:latin typeface="Franklin Gothic Book"/>
              </a:rPr>
              <a:t>nd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 verb. 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Examples: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 am going  to buy </a:t>
            </a:r>
            <a:r>
              <a:rPr b="1" i="1" lang="en-US" sz="2800" spc="-1" strike="noStrike">
                <a:solidFill>
                  <a:srgbClr val="338fd9"/>
                </a:solidFill>
                <a:latin typeface="Franklin Gothic Book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a handbag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Yo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 te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voy</a:t>
            </a:r>
            <a:r>
              <a:rPr b="0" lang="en-US" sz="2800" spc="-1" strike="noStrike">
                <a:solidFill>
                  <a:srgbClr val="f4680b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a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a bolsa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Yo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voy</a:t>
            </a:r>
            <a:r>
              <a:rPr b="0" lang="en-US" sz="2800" spc="-1" strike="noStrike">
                <a:solidFill>
                  <a:srgbClr val="f4680b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a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t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a bolsa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He wants to buy </a:t>
            </a:r>
            <a:r>
              <a:rPr b="1" i="1" lang="en-US" sz="3000" spc="-1" strike="noStrike">
                <a:solidFill>
                  <a:srgbClr val="338fd9"/>
                </a:solidFill>
                <a:latin typeface="Franklin Gothic Book"/>
              </a:rPr>
              <a:t>us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 a video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Él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quier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nos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vide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Él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nos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quier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vide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841400" cy="6332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4" descr=""/>
          <p:cNvPicPr/>
          <p:nvPr/>
        </p:nvPicPr>
        <p:blipFill>
          <a:blip r:embed="rId3"/>
          <a:stretch/>
        </p:blipFill>
        <p:spPr>
          <a:xfrm>
            <a:off x="5870520" y="1841400"/>
            <a:ext cx="18414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You are going to buy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a car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Tú vas a 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m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carr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Tú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m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vas a comprar un carr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y friend wants to buy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(the) lunch.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Mi amigo quiere 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t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el almuerz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Mi amigo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te 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quiere comprar el almuerz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e are going to buy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a compact disc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Nosotros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l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vamos a comprar un disco compact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Nosotros vamos a 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l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disco compact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47" name="TextBox 3"/>
          <p:cNvSpPr/>
          <p:nvPr/>
        </p:nvSpPr>
        <p:spPr>
          <a:xfrm flipH="1" rot="608400">
            <a:off x="6508440" y="1952640"/>
            <a:ext cx="2292480" cy="1191240"/>
          </a:xfrm>
          <a:prstGeom prst="rect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4206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sk yourself: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o Whom? / For whom?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bout the verb to find the IO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4:42:01Z</dcterms:created>
  <dc:creator>Heffernen, Heather</dc:creator>
  <dc:description/>
  <dc:language>en-US</dc:language>
  <cp:lastModifiedBy>Prine, Stephanie</cp:lastModifiedBy>
  <dcterms:modified xsi:type="dcterms:W3CDTF">2016-12-01T17:46:25Z</dcterms:modified>
  <cp:revision>23</cp:revision>
  <dc:subject/>
  <dc:title>Los Apuntes: Indirect Object Pronouns</dc:title>
</cp:coreProperties>
</file>